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2.xml.rels" ContentType="application/vnd.openxmlformats-package.relationships+xml"/>
  <Override PartName="/ppt/notesSlides/notesSlide1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7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5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151.xml.rels" ContentType="application/vnd.openxmlformats-package.relationships+xml"/>
  <Override PartName="/ppt/slides/_rels/slide104.xml.rels" ContentType="application/vnd.openxmlformats-package.relationships+xml"/>
  <Override PartName="/ppt/slides/_rels/slide71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73.xml.rels" ContentType="application/vnd.openxmlformats-package.relationships+xml"/>
  <Override PartName="/ppt/slides/_rels/slide150.xml.rels" ContentType="application/vnd.openxmlformats-package.relationships+xml"/>
  <Override PartName="/ppt/slides/_rels/slide106.xml.rels" ContentType="application/vnd.openxmlformats-package.relationships+xml"/>
  <Override PartName="/ppt/slides/_rels/slide69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68.xml.rels" ContentType="application/vnd.openxmlformats-package.relationships+xml"/>
  <Override PartName="/ppt/slides/_rels/slide131.xml.rels" ContentType="application/vnd.openxmlformats-package.relationships+xml"/>
  <Override PartName="/ppt/slides/_rels/slide143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4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32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55.xml.rels" ContentType="application/vnd.openxmlformats-package.relationships+xml"/>
  <Override PartName="/ppt/slides/_rels/slide29.xml.rels" ContentType="application/vnd.openxmlformats-package.relationships+xml"/>
  <Override PartName="/ppt/slides/_rels/slide40.xml.rels" ContentType="application/vnd.openxmlformats-package.relationships+xml"/>
  <Override PartName="/ppt/slides/_rels/slide145.xml.rels" ContentType="application/vnd.openxmlformats-package.relationships+xml"/>
  <Override PartName="/ppt/slides/_rels/slide1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7.xml.rels" ContentType="application/vnd.openxmlformats-package.relationships+xml"/>
  <Override PartName="/ppt/slides/_rels/slide44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8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2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1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37.xml.rels" ContentType="application/vnd.openxmlformats-package.relationships+xml"/>
  <Override PartName="/ppt/slides/_rels/slide146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3.xml.rels" ContentType="application/vnd.openxmlformats-package.relationships+xml"/>
  <Override PartName="/ppt/slides/_rels/slide14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156.xml.rels" ContentType="application/vnd.openxmlformats-package.relationships+xml"/>
  <Override PartName="/ppt/slides/_rels/slide51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2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15.xml.rels" ContentType="application/vnd.openxmlformats-package.relationships+xml"/>
  <Override PartName="/ppt/slides/_rels/slide38.xml.rels" ContentType="application/vnd.openxmlformats-package.relationships+xml"/>
  <Override PartName="/ppt/slides/_rels/slide8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148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54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155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128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37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52.xml" ContentType="application/vnd.openxmlformats-officedocument.presentationml.slide+xml"/>
  <Override PartName="/ppt/slides/slide56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  <p:sldId id="359" r:id="rId109"/>
    <p:sldId id="360" r:id="rId110"/>
    <p:sldId id="361" r:id="rId111"/>
    <p:sldId id="362" r:id="rId112"/>
    <p:sldId id="363" r:id="rId113"/>
    <p:sldId id="364" r:id="rId114"/>
    <p:sldId id="365" r:id="rId115"/>
    <p:sldId id="366" r:id="rId116"/>
    <p:sldId id="367" r:id="rId117"/>
    <p:sldId id="368" r:id="rId118"/>
    <p:sldId id="369" r:id="rId119"/>
    <p:sldId id="370" r:id="rId120"/>
    <p:sldId id="371" r:id="rId121"/>
    <p:sldId id="372" r:id="rId122"/>
    <p:sldId id="373" r:id="rId123"/>
    <p:sldId id="374" r:id="rId124"/>
    <p:sldId id="375" r:id="rId125"/>
    <p:sldId id="376" r:id="rId126"/>
    <p:sldId id="377" r:id="rId127"/>
    <p:sldId id="378" r:id="rId128"/>
    <p:sldId id="379" r:id="rId129"/>
    <p:sldId id="380" r:id="rId130"/>
    <p:sldId id="381" r:id="rId131"/>
    <p:sldId id="382" r:id="rId132"/>
    <p:sldId id="383" r:id="rId133"/>
    <p:sldId id="384" r:id="rId134"/>
    <p:sldId id="385" r:id="rId135"/>
    <p:sldId id="386" r:id="rId136"/>
    <p:sldId id="387" r:id="rId137"/>
    <p:sldId id="388" r:id="rId138"/>
    <p:sldId id="389" r:id="rId139"/>
    <p:sldId id="390" r:id="rId140"/>
    <p:sldId id="391" r:id="rId141"/>
    <p:sldId id="392" r:id="rId142"/>
    <p:sldId id="393" r:id="rId143"/>
    <p:sldId id="394" r:id="rId144"/>
    <p:sldId id="395" r:id="rId145"/>
    <p:sldId id="396" r:id="rId146"/>
    <p:sldId id="397" r:id="rId147"/>
    <p:sldId id="398" r:id="rId148"/>
    <p:sldId id="399" r:id="rId149"/>
    <p:sldId id="400" r:id="rId150"/>
    <p:sldId id="401" r:id="rId151"/>
    <p:sldId id="402" r:id="rId152"/>
    <p:sldId id="403" r:id="rId153"/>
    <p:sldId id="404" r:id="rId154"/>
    <p:sldId id="405" r:id="rId155"/>
    <p:sldId id="406" r:id="rId156"/>
    <p:sldId id="407" r:id="rId157"/>
    <p:sldId id="408" r:id="rId158"/>
    <p:sldId id="409" r:id="rId159"/>
    <p:sldId id="410" r:id="rId160"/>
    <p:sldId id="411" r:id="rId161"/>
    <p:sldId id="412" r:id="rId1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slide" Target="slides/slide104.xml"/><Relationship Id="rId110" Type="http://schemas.openxmlformats.org/officeDocument/2006/relationships/slide" Target="slides/slide105.xml"/><Relationship Id="rId111" Type="http://schemas.openxmlformats.org/officeDocument/2006/relationships/slide" Target="slides/slide106.xml"/><Relationship Id="rId112" Type="http://schemas.openxmlformats.org/officeDocument/2006/relationships/slide" Target="slides/slide107.xml"/><Relationship Id="rId113" Type="http://schemas.openxmlformats.org/officeDocument/2006/relationships/slide" Target="slides/slide108.xml"/><Relationship Id="rId114" Type="http://schemas.openxmlformats.org/officeDocument/2006/relationships/slide" Target="slides/slide109.xml"/><Relationship Id="rId115" Type="http://schemas.openxmlformats.org/officeDocument/2006/relationships/slide" Target="slides/slide110.xml"/><Relationship Id="rId116" Type="http://schemas.openxmlformats.org/officeDocument/2006/relationships/slide" Target="slides/slide111.xml"/><Relationship Id="rId117" Type="http://schemas.openxmlformats.org/officeDocument/2006/relationships/slide" Target="slides/slide112.xml"/><Relationship Id="rId118" Type="http://schemas.openxmlformats.org/officeDocument/2006/relationships/slide" Target="slides/slide113.xml"/><Relationship Id="rId119" Type="http://schemas.openxmlformats.org/officeDocument/2006/relationships/slide" Target="slides/slide114.xml"/><Relationship Id="rId120" Type="http://schemas.openxmlformats.org/officeDocument/2006/relationships/slide" Target="slides/slide115.xml"/><Relationship Id="rId121" Type="http://schemas.openxmlformats.org/officeDocument/2006/relationships/slide" Target="slides/slide116.xml"/><Relationship Id="rId122" Type="http://schemas.openxmlformats.org/officeDocument/2006/relationships/slide" Target="slides/slide117.xml"/><Relationship Id="rId123" Type="http://schemas.openxmlformats.org/officeDocument/2006/relationships/slide" Target="slides/slide118.xml"/><Relationship Id="rId124" Type="http://schemas.openxmlformats.org/officeDocument/2006/relationships/slide" Target="slides/slide119.xml"/><Relationship Id="rId125" Type="http://schemas.openxmlformats.org/officeDocument/2006/relationships/slide" Target="slides/slide120.xml"/><Relationship Id="rId126" Type="http://schemas.openxmlformats.org/officeDocument/2006/relationships/slide" Target="slides/slide121.xml"/><Relationship Id="rId127" Type="http://schemas.openxmlformats.org/officeDocument/2006/relationships/slide" Target="slides/slide122.xml"/><Relationship Id="rId128" Type="http://schemas.openxmlformats.org/officeDocument/2006/relationships/slide" Target="slides/slide123.xml"/><Relationship Id="rId129" Type="http://schemas.openxmlformats.org/officeDocument/2006/relationships/slide" Target="slides/slide124.xml"/><Relationship Id="rId130" Type="http://schemas.openxmlformats.org/officeDocument/2006/relationships/slide" Target="slides/slide125.xml"/><Relationship Id="rId131" Type="http://schemas.openxmlformats.org/officeDocument/2006/relationships/slide" Target="slides/slide126.xml"/><Relationship Id="rId132" Type="http://schemas.openxmlformats.org/officeDocument/2006/relationships/slide" Target="slides/slide127.xml"/><Relationship Id="rId133" Type="http://schemas.openxmlformats.org/officeDocument/2006/relationships/slide" Target="slides/slide128.xml"/><Relationship Id="rId134" Type="http://schemas.openxmlformats.org/officeDocument/2006/relationships/slide" Target="slides/slide129.xml"/><Relationship Id="rId135" Type="http://schemas.openxmlformats.org/officeDocument/2006/relationships/slide" Target="slides/slide130.xml"/><Relationship Id="rId136" Type="http://schemas.openxmlformats.org/officeDocument/2006/relationships/slide" Target="slides/slide131.xml"/><Relationship Id="rId137" Type="http://schemas.openxmlformats.org/officeDocument/2006/relationships/slide" Target="slides/slide132.xml"/><Relationship Id="rId138" Type="http://schemas.openxmlformats.org/officeDocument/2006/relationships/slide" Target="slides/slide133.xml"/><Relationship Id="rId139" Type="http://schemas.openxmlformats.org/officeDocument/2006/relationships/slide" Target="slides/slide134.xml"/><Relationship Id="rId140" Type="http://schemas.openxmlformats.org/officeDocument/2006/relationships/slide" Target="slides/slide135.xml"/><Relationship Id="rId141" Type="http://schemas.openxmlformats.org/officeDocument/2006/relationships/slide" Target="slides/slide136.xml"/><Relationship Id="rId142" Type="http://schemas.openxmlformats.org/officeDocument/2006/relationships/slide" Target="slides/slide137.xml"/><Relationship Id="rId143" Type="http://schemas.openxmlformats.org/officeDocument/2006/relationships/slide" Target="slides/slide138.xml"/><Relationship Id="rId144" Type="http://schemas.openxmlformats.org/officeDocument/2006/relationships/slide" Target="slides/slide139.xml"/><Relationship Id="rId145" Type="http://schemas.openxmlformats.org/officeDocument/2006/relationships/slide" Target="slides/slide140.xml"/><Relationship Id="rId146" Type="http://schemas.openxmlformats.org/officeDocument/2006/relationships/slide" Target="slides/slide141.xml"/><Relationship Id="rId147" Type="http://schemas.openxmlformats.org/officeDocument/2006/relationships/slide" Target="slides/slide142.xml"/><Relationship Id="rId148" Type="http://schemas.openxmlformats.org/officeDocument/2006/relationships/slide" Target="slides/slide143.xml"/><Relationship Id="rId149" Type="http://schemas.openxmlformats.org/officeDocument/2006/relationships/slide" Target="slides/slide144.xml"/><Relationship Id="rId150" Type="http://schemas.openxmlformats.org/officeDocument/2006/relationships/slide" Target="slides/slide145.xml"/><Relationship Id="rId151" Type="http://schemas.openxmlformats.org/officeDocument/2006/relationships/slide" Target="slides/slide146.xml"/><Relationship Id="rId152" Type="http://schemas.openxmlformats.org/officeDocument/2006/relationships/slide" Target="slides/slide147.xml"/><Relationship Id="rId153" Type="http://schemas.openxmlformats.org/officeDocument/2006/relationships/slide" Target="slides/slide148.xml"/><Relationship Id="rId154" Type="http://schemas.openxmlformats.org/officeDocument/2006/relationships/slide" Target="slides/slide149.xml"/><Relationship Id="rId155" Type="http://schemas.openxmlformats.org/officeDocument/2006/relationships/slide" Target="slides/slide150.xml"/><Relationship Id="rId156" Type="http://schemas.openxmlformats.org/officeDocument/2006/relationships/slide" Target="slides/slide151.xml"/><Relationship Id="rId157" Type="http://schemas.openxmlformats.org/officeDocument/2006/relationships/slide" Target="slides/slide152.xml"/><Relationship Id="rId158" Type="http://schemas.openxmlformats.org/officeDocument/2006/relationships/slide" Target="slides/slide153.xml"/><Relationship Id="rId159" Type="http://schemas.openxmlformats.org/officeDocument/2006/relationships/slide" Target="slides/slide154.xml"/><Relationship Id="rId160" Type="http://schemas.openxmlformats.org/officeDocument/2006/relationships/slide" Target="slides/slide155.xml"/><Relationship Id="rId161" Type="http://schemas.openxmlformats.org/officeDocument/2006/relationships/slide" Target="slides/slide156.xml"/><Relationship Id="rId162" Type="http://schemas.openxmlformats.org/officeDocument/2006/relationships/slide" Target="slides/slide157.xml"/><Relationship Id="rId1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9130-5132-4F9C-8D9C-DB5C265A0B4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70CF-6D50-4B49-AA3B-1F606C29ABF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BFA65-99AE-4A65-AA89-7078E11B8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5212C-65CB-4DD2-97C4-58993F52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401EB-B54A-4582-98FD-163927FF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D6F88-2DA2-4FD8-8F52-A385EF3CA1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7FB9-6C8E-49BB-9591-E29DC5C7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BB16-C180-4318-82F5-3E32A90E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81EF3-0CCA-4FB4-98D8-A7B78C00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09D64-AA38-4A5C-AED3-785D8A8D7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4025-2760-4D30-94AC-D27AB06E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9842B-87F9-4505-94BB-2B8FC90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0DEC-0341-4392-BBE1-E63601EA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E3AC1-A514-49FD-8418-9C41922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>
              <a:gd name="textAreaLeft" fmla="*/ 0 w 9156960"/>
              <a:gd name="textAreaRight" fmla="*/ 9156960 w 915696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758E-4E21-4E84-A34D-53D84EED69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-360 h 359640"/>
                  <a:gd name="textAreaBottom" fmla="*/ 359640 h 35964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Click to edit the outline text format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con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Third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our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Fif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ix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ac8de"/>
                </a:solidFill>
                <a:latin typeface="黑体"/>
              </a:rPr>
              <a:t>Seventh Outline Level</a:t>
            </a:r>
            <a:endParaRPr b="1" lang="en-US" sz="3200" spc="-1" strike="noStrike">
              <a:solidFill>
                <a:srgbClr val="8ac8de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三章  药物疗法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药物的不同性质妥善保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受热易破坏的生物制品等，放置于阴凉干燥处或放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冰箱中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挥发、潮解和风化的药物，应密闭保存，盖紧瓶盖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氧化和遇光易分解的药物，装入深色瓶内或有遮光纸的药盒内，置于暗处保存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7acdf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的药物，应密闭并置于阴凉处单独存放，远离火源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10288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静脉注射药物剂量准确、速度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患者的年龄、病情、药物性质、特殊药物的输液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、肺、肝、肾功能、穿刺部位的皮肤和血管情况，肢体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情况及配合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泵的使用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输注前排尽空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处理各种故障，避免针头凝血堵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休克患者，须经动脉加压输入血液或高渗葡萄糖液以增加有效血容量，从而改善心脑血流供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施行某些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入造影剂，施行某些特殊检查，如脑血管造影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血气分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动脉穿刺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技术，以防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新生儿多采用桡动脉，如采用股动脉垂直进针易伤及髋关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推药过程中应注意观察患者局部情况与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如血液病患者，谨慎应用，以免引起血流不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五节  药物过敏实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过敏试验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药物过敏试验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药物过敏反应的特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过敏体质密切相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具有普遍性，只发生于少数特殊体质人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发生与药物用量无关，剂量与反应程度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同药物引起的过敏反应症状大致相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临床表现与正常药理作用无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通常不发生在首次用药，一般均在再次用药后发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已产生过敏的药物不能再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及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碘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细胞色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鲁卡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试验及过敏反应的处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青霉素过敏试验，根据患者局部皮丘变化及全身反应情况，确定患者对青霉素是否过敏，以作为临床应用青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过敏史及家族过敏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试验注射部位皮肤状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心理、意识状态，对青霉素过敏试验的认识及配合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使用任何剂型、不同生产批号的青霉素前，必须作过敏试验，结果为阴性才能用药，用药后还须严密观察用药后的反应，预防及有效地处理迟发型过敏反应的发生。注意局部和全身反应，倾听患者主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皮试液应现用现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青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青霉素过敏试验或注射前均应做好急救的准备工作（备好盐酸肾上腺素和注射器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阳性者禁止使用青霉素，同时报告医生，在医嘱单、病历、床头卡上用红笔醒目地注明青霉素过敏试验阳性反应，并告知患者及其家属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对皮试结果有怀疑，应在对侧前臂皮内注射生理盐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l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作对照，确认青霉素皮试结果为阴性方可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性休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阻塞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循环衰竭症状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34272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枢神经系统症状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清病型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器官或组织的过敏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皮肤过敏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呼吸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化道反应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按医嘱准确给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嘱必须清楚、明确，项目完整，由医生本人签名后方可执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不可擅自更改医嘱，也应具备对常用药物、剂量、给药方法、给药时间的判断和监督能力，不能盲目执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停药，协助患者取平卧位，保暖，报告医生的同时迅速抢救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立即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盐酸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患儿酌减，如症状不缓解，可每隔半小时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直至脱离危险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予氧气吸入，改善缺氧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常用药物过敏试验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霉素过敏性休克的急救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医嘱立即给地塞米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，或将琥珀酸钠氢化可的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0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静脉滴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酸中毒及扩充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变化，详细记录 密切观察患者体温、脉搏、呼吸、血压、尿量及其他临床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链霉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过链霉素过敏试验，确定患者对链霉素是否过敏，以作为临床应用链霉素治疗的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需备链霉素制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氯化钙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葡萄糖酸钙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链霉素过敏试验及过敏反应的处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临床表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链霉素过敏反应的临床表现与青霉素过敏反应大致相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反应的急救措施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搐时可应用钙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破伤风抗毒素过敏试验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查七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查：操作前、操作中、操作后均需查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七对：核对床号、姓名、药名、浓度、剂量、时间、用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个准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准确的药物，按准确的剂量，在准确的时间内，用准确的途径，给予准确的患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药物的质量和有效期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发现有药品标签不清楚、药瓶有裂隙或瓶盖松动、药物变色、变质、沉淀，以及药物超过有效期等情况应放弃使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救治破伤风患者时应用，有利于控制病情发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潜在有破伤风危险的外伤伤员，作为被动免疫预防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点评估患者用药史、过敏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次应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注射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但停药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者，需做皮内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：须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其他参阅青霉素皮内试验其他参阅青霉素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阴性：局部无红肿，无异常全身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阳性：局部皮丘红肿、硬结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红晕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时出现伪足、痒感。全身过敏反应与青霉素过敏反应相同，以血清病型反应多见，主要表现为发热、速发型或迟缓型血清病，反应一般不严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9217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破伤风抗毒素过敏试验及脱敏注射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A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脱敏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方法：见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3-4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敏反应的急救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1403280" y="3592440"/>
          <a:ext cx="6624720" cy="2057400"/>
        </p:xfrm>
        <a:graphic>
          <a:graphicData uri="http://schemas.openxmlformats.org/drawingml/2006/table">
            <a:tbl>
              <a:tblPr/>
              <a:tblGrid>
                <a:gridCol w="1656000"/>
                <a:gridCol w="1655640"/>
                <a:gridCol w="1657440"/>
                <a:gridCol w="1655640"/>
              </a:tblGrid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次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TAT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盐水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注射法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9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2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8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3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0.7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118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余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加至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ml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肌内注射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568" name="Rectangle 1"/>
          <p:cNvSpPr/>
          <p:nvPr/>
        </p:nvSpPr>
        <p:spPr>
          <a:xfrm>
            <a:off x="3688920" y="32241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表</a:t>
            </a:r>
            <a:r>
              <a:rPr b="1" lang="en-US" sz="1800" spc="-1" strike="noStrike">
                <a:solidFill>
                  <a:srgbClr val="046ca6"/>
                </a:solidFill>
                <a:latin typeface="Gulim"/>
              </a:rPr>
              <a:t>13-4  </a:t>
            </a:r>
            <a:r>
              <a:rPr b="1" lang="zh-CN" sz="1800" spc="-1" strike="noStrike">
                <a:solidFill>
                  <a:srgbClr val="046ca6"/>
                </a:solidFill>
                <a:latin typeface="宋体"/>
              </a:rPr>
              <a:t>破伤风抗霉素脱敏注射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慌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细胞色素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8280360" cy="521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过敏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划痕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发红，直径大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有丘疹者阳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普鲁卡因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普鲁卡因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皮内注射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判断试验结果，结果判断方法同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结果判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后有口麻、头晕、心悸、恶心、呕吐、荨麻疹等症状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后局部有红、肿、硬块，直径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注射后有血压、脉搏、呼吸和面色等改变为阳性，其余同口服的症状。少数患者过敏试验阴性，但在注射碘造影剂时还可能发生过敏反应，故在造影时仍需要备好急救药品，处理同青霉素过敏反应的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碘过敏试验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试验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内注射链霉素皮试药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0U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观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判断结果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试结果判断标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青霉素过敏试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安全的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、指导、交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前护士应向患者解释，取得患者的合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给药中向患者解释清楚所用药物的名称、剂量、用法及时间等及相关的用药注意事项，使患者能够合理用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38b5f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加强与患者、家属的交流沟通，并给予相应的指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熟练运用给药的技术，正确给药，减轻患者的痛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要了解所用药物的作用与副作用，监测患者病情变化，动态评价药物疗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剧毒药及麻醉药最主要的保管原则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名应用中、外文对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应加锁，专人管理并认真交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装密封瓶中保存，放于阴凉处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药瓶上应有明显标签，用黑色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与内服药、外用药分别放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效果最快的给药途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吸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口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外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服用时应避免与牙齿接触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止咳糖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棕色合剂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稀盐酸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碳酸氢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颠茄合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超声波雾化器在使用过程中，水槽内的水温超过多少时应及时调换冷蒸馏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6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7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列关于注射原则的描述，不正确的一项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前必须洗手、戴口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安全注射部位，避开局部的神经和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的药物应按时抽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肌内注射时如发现回血，应拔出针头重新进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皮肤的消毒直径小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注射的部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上均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外侧自肩峰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上臂三角肌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横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7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时的体位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伸直、上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下腿弯曲、上腿伸直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伸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两腿弯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双膝向腹部弯曲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时针头与皮肤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3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4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9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°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在为患者静脉注射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%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葡萄糖溶液穿刺后见回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过程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自述注射部位疼痛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推注部位局部无隆起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此情况应考虑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滑出血管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头部分阻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紧贴血管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痉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针尖斜面一部分至全部穿透下面血管壁，少量药液注入深部组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抢救链霉素过敏反应时，为了减轻链霉素的毒性可以静脉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丙嗪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扑尔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乳酸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氯化钙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异丙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安全给药的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908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用药，采取促进药效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安排给药的时间和间隔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配伍禁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38b5fa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高患者药物的依从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易氧化和遇光易变质而应装在有色密闭瓶中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黑纸遮光的纸盒内，放于阴凉处的药物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维生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 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乙醇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氨茶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盐酸肾上腺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执行药疗时护士进行七对的内容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用药史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浓度、剂量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时间、用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药名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核对姓名、床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部位选择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内注射作药敏试验：前臂掌侧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皮下注射胰岛素：上臂三角肌下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大肌注射：髂前上棘和尾骨联线外上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/3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臀小肌注射：髂前上棘外侧三横指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V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注射：髂前上棘和耻骨结节联线中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青霉素过敏试验阳性的结果包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局部皮丘隆起增大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1cm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红晕、硬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&gt;0.5cm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伪足、局部发痒　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无全身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半，护士遵照医嘱为其肌内注射青霉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可以选择哪些注射部位？如何定位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注射时应遵循哪些原则？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女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肺炎球菌肺炎住院治疗。医嘱青霉素皮试，青霉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万单位加入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0.9% NaCl 1000ml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静脉滴注，护士评估患者得知患者从未用过青霉素，青霉素皮试后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钟左右，患者诉说皮肤瘙痒，胸闷，继之面色变白，出冷汗，护士立即让其平卧，测其脉搏细弱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，血压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80/50mmHg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神志清楚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王女士可能出现什么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应如何急救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自测题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患者，男，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岁，因右手拇指被锈钉刺伤，医嘱肌内注射破伤风抗毒素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500U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皮试结果该患者为阳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护士应如何处理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剂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用药物的种类依据给药的不同途径可分为：内服药、外用药、注射药、新型制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不同剂型的药物吸收量与速度不同，从而影响药物在体内的代谢过程，如水溶性制剂比油剂、混悬液或固体剂型吸收快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药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前临床常用的给药途径吸收由快到慢依次为：吸入＞舌下含服＞直肠＞肌内注射＞皮下注射＞口服＞皮肤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课程内容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44720" y="1773000"/>
            <a:ext cx="7788240" cy="46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节  给药的基本知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节  口服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三节  吸入给药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四节  注射给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五节  药物过敏试验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影响药物作用的因素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280360" cy="54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体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与体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女性特殊时期（月经期、妊娠期、哺乳期）用药需慎重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疾病可影响机体对药物的敏感性，也可改变药物的体内代谢过程，从而影响药物的效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情绪愉快、乐观，信赖医务人员，药物较易发挥治疗效果，如安慰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二节  口服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给药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8036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物通常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开水送服，不能用茶、牛奶等代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对呼吸道黏膜有安抚作用的止咳糖浆后，不宜立即饮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口服药的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药物需多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平喘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利胆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磺胺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发汗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痛风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抗尿路结石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蛋白酶抑制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双膦酸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解质类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34680" y="105264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服药时间的安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生素及磺胺类药物需在血液中保持有效浓度，应准时服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协同或拮抗作用的药物不宜同时或在短时间内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强心苷类药物前必须先测量患者的脉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节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妇女调经药宜在月经前数日开始服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清晨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肾上腺皮质激素类、抗高血压药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避免影响夜间睡眠，利尿药和刺激性强的泻药宜在清晨口服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空腹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药物迅速进入肠道，充分吸收，保持较高浓度，迅速发挥作用。如盐类泻药硫酸镁等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无刺激性的药物可空腹服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服药可因剂型不同而影响其生物利用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健胃药、稀盐酸、胃蛋白酶等药物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饭后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凡是助消化的药物及对胃黏膜有刺激性的药物均宜在饭后服用。如阿司匹林、吲哚美辛、硫酸亚铁、小檗碱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前服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生物钟节律：催眠药、缓泻药、平喘药、血脂调节药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减少不良反应：抗过敏药易引起瞌睡，睡前服药可减少瞌睡对日常活动的影响，避免意外受伤的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安全给药指导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34680" y="119700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牙齿有腐蚀作用或使牙齿染色的药物如酸剂、铁剂，服用时避免与牙齿接触，使用吸水管吸入，服后及时漱口。服用铁剂忌饮茶，防止铁剂和茶叶中的鞣酸结合形成铁盐，阻碍吸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用利尿剂需记录出入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饮酒会影响药物疗效的发挥，服药前后禁忌饮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991280" cy="48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出安全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给药相关的医学常用缩写用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注射给药的原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药物过敏试验结果判断的内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破伤风脱敏注射的步骤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疾病、减轻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正常的生理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及吞咽能力，有无口腔、食管、胃肠道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年龄、意识状态及自理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服药情况，是否顺利，有无恶心、呕吐，有无拒绝服药的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了解药疗计划及具备所服药物的有关知识。患者对服药必要性的认识及服药的依从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口服给药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释用药的目的和注意事项，指导患者正确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三节  吸入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压式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超声波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缩雾化吸入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、控制呼吸道感染、减轻炎症、稀化痰液、湿化气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术前吸入麻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抗肿瘤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治疗情况、用药史、药物过敏史、家族史，所给药物的药理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意识状态、对雾化吸入给药计划的了解、心理状态及合作程度。 向患者解释给药的目的、方法、注意事项、药物的作用及配合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系统状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感染、通畅与否，有无支气管痉挛、呼吸道黏膜水肿、痰液情况等。患者面部及口腔黏膜状况，有无感染、溃疡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12360" y="1412640"/>
            <a:ext cx="7991640" cy="48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陈述药物的保管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列举影响药物疗效的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概括口服给药的注意事项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解释吸入法给药的原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阐述常用皮试液配制的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描述药物过敏反应发生的机理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氧气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无菌操作，定期消毒，避免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安全用氧，严禁接触烟火和易燃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雾化吸入治疗的患者，所用雾化量必须适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除支气管痉挛，改善通气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氧气雾化吸入法的相关内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手压式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喷雾器使用后应放置阴凉处保存，外壳定期清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导患者及其家属正确使用手压式雾化吸入器吸入给药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，确认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轻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槽内需有足够的冷蒸馏水，槽内水温勿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水温过高需关机换冷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雾化吸入后应注意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超声波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止交叉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使用完毕，将水槽中水完全倒掉，擦干雾化器，晶片用软布擦干，发现晶片上有水垢，用晶片专用清洗液浸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然后擦干，以延长寿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有呼吸困难、心率过快等症状的患者禁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须放在平坦稳定处，勿置于地毯或粗糙表面，以免堵塞通风，操作时勿覆盖压缩机表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教学目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2360" y="1415520"/>
            <a:ext cx="8280360" cy="503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各种注射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实施雾化吸入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、压缩雾化吸入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压缩雾化吸入器为电器，勿在无人监视及危险、潮湿的环境下使用。进行清洁前先关闭压缩机电源、拔出电源插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儿童使用面罩时连接弯接管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消毒和清洁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四节  注射给药法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给药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的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用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查对制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“三查七对”，确保安全用药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过敏的药物，注射前应详细询问患者的用药史、过敏史、家族遗传史。做过敏试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仔细检查药物的质量、批号及生产日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需同时注射数种药物时注意药物的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衣帽整洁，注射前必须洗手，戴口罩，注射后护士也应洗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用前检查无菌药物的质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针筒的内壁、活塞、乳头及针头的针梗、针尖、针栓内壁必须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消毒要严格，并保持无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执行消毒隔离制度，预防交叉感染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室内每天要消毒，定期采样培养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一套注射物品，包括一次性注射器、止血带、一次性治疗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所用物品须按消毒隔离制度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次性物品应按规定处理，不可随意丢弃和再次使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器和针头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选择合适的注射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应避开血管、神经及骨隆突处，不可在有炎症、瘢痕、硬结及患皮肤病处进针。对需长期注射的患者，应有计划地逐步更换注射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药液现用现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射前排尽空气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推注药液前检查回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合适的进针角度和深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注射法分别有不同的进针角度和深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时针梗不可刺入过浅，以防起效慢，达不到治疗效果；也不可全部刺入皮肤，以防针梗部位断裂难以拔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第一节  给药的基本知识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792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给药的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药物作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解释和安慰，消除患者的不安和害怕心理，分散其注意力，尽可能使其身心放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采取适当的体位和姿势，放松局部肌肉，易于进针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时做到“二快一慢加匀速”，即进针快、拔针快，推注药液缓慢而均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注射给药原则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用减轻患者疼痛的注射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刺激性强的药液，应选择相对较长的针头，进针要深，推药速度宜慢。必要时选择无痛注射器消除注射时造成的疼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种药物同时注射时，应先注射刺激性弱的药物，再注射刺激性强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在用药的全过程中，随时观察患者的反应，及时询问和听取患者主诉，发现问题及时处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医嘱准备注射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和针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车下层准备以下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二、注射前的准备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吸药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步骤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给药原则和注射给药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药液的性质抽取药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某些特殊药物与注射器一次性包装完好，按无菌技术方法打开后即可注射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下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内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泵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穿刺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于各种药物过敏试验，以判断药物是否可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的初始步骤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9000" y="2133360"/>
            <a:ext cx="86410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药物过敏试验前，护士应详细询问患者的用药史、过敏史及家族史，还应备好急救药品，以备急救时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忌用碘酊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针勿过深，以免影响结果的观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剂量应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给患者做药物过敏试验后，嘱患者勿按揉局部，勿抓挠、勿剧烈运动、勿离开病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或注射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等待护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观察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需作对照试验，在另一前臂的相同部位，用另一注射器和针头抽吸好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盐水注入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后观察反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发挥药效但不能或不宜经口服给药时采用，如胰岛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接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局部麻醉用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34680" y="1268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57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查对制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量避免使用对皮肤有刺激作用的药物进行皮下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持针时，右手示指固定针栓，但不可接触针梗，以免污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皮下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角度不宜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免刺入肌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反复皮下注射者，应更换注射部位，建立轮流交替注射部位的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少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药液，必须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器，以保证注入药液剂量准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74680" y="1989000"/>
            <a:ext cx="8640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领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门诊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药物领取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区内常备少量常用药、急救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迅速达到药效或注射刺激性较强或药量较大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宜或不能采用口服或静脉注射的药物，要求比皮下注射更迅速发生疗效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34680" y="1125360"/>
            <a:ext cx="8280360" cy="532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皮下组织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大肌为最常用，其次为臀中肌和臀小肌、股外侧及上臂三角肌，臀大肌注射定位法：十字法、联线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臀中肌、臀小肌注射定位法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肌内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下婴幼儿不宜选用臀大肌注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勿把针梗全部刺入，以防针梗从根部折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药液同时注射时，要注意配伍禁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肌内注射者应有计划地更换注射部位，并用细长针头，避免或减少硬结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婴幼儿头皮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股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不宜口服、皮下或肌内注射，需迅速发生药效时，可采用静脉注射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浓度高、刺激性大、量多而不宜采取其他注射方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诊断、试验检查时，由静脉注入药物，如为肝、肾、胆囊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线摄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射部位皮肤及血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对药疗计划的了解和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四肢浅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需长期注射者应有计划地由远心端到近心端选择使用静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组织有强烈刺激的药物，防药液外溢于组织内而发生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、治疗目的及药物的性质调节注药速度，观察注射局部以及病情变化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一、概述</a:t>
            </a: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的保管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放置位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类保管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1199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应有清晰的标签，标签上注明药品的名称、浓度和剂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89042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：见四肢浅静脉注射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病情、意识状况、活动能力、治疗情况、药物过敏史、家族史、用药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皮局部皮肤及血管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儿及家属对药疗计划的了解和合作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婴幼儿头皮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区分头皮静脉与动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钙剂等刺激性较强的药物禁止从头皮静脉直接注射，防止因药物外渗引起头皮坏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9280" y="1214280"/>
            <a:ext cx="8280360" cy="521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于急救时作加压输液、输血或采集血标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同四肢静脉注射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步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股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规程，防止感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为小儿注射，需用治疗巾覆盖会阴，以防其排尿弄湿穿刺部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出血倾向者不宜采用此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浅，或因静脉滑动，未刺入血管内，抽吸无回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尖未完全进入血管，斜面一半在血管内，一半在血管外，抽回血断续，注药时部分药液溢出至皮下，局部皮肤隆起并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注射失败的常见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较深，针尖斜面一半穿破对侧血管壁，抽吸有回血，但推药不畅，部分药液溢出至深部组织，有痛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针头刺入过深，穿透对侧血管壁，药物注入深部组织，有痛感，没有回血，如只推注少量药液，局部皮肤不一定隆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262080"/>
            <a:ext cx="80773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三、常用注射技术</a:t>
            </a:r>
            <a:r>
              <a:rPr b="1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静脉注射法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8280360" cy="554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特殊患者静脉穿刺技巧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肥胖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肿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气寒冷静脉充盈不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微软用户</cp:lastModifiedBy>
  <dcterms:modified xsi:type="dcterms:W3CDTF">2016-01-25T06:10:58Z</dcterms:modified>
  <cp:revision>160</cp:revision>
  <dc:subject/>
  <dc:title>内科护理学</dc:title>
</cp:coreProperties>
</file>